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6D71-2592-4D29-9661-67AF9F88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D37A-8EE3-49C4-A136-6BA648CE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BDC7-BDB9-4691-88D0-0C3A8473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6430-A6E2-4B06-916E-A551C31E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C774-8D24-4A50-AB4A-DD91B20D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7FFA-5082-46CD-B22E-5A3B5B70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9579-5611-4FAA-889D-21828805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DAC5-ACDD-4B7D-BC0F-39188367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5D8E-781B-4C71-BE2D-21811D65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B6AE-22BC-47BF-9041-4DFBB901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B5D8-B86B-4B2C-BE94-33521447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85F5-0219-4E7D-BC8B-3A1DFD12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DD0F-0EFC-4A8E-8FA3-F9C63D1D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B597-C933-4AAC-870E-E7984C15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4968-A706-416A-88C1-788C3C34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07A4-CD19-4E73-A415-BB9A5D1A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6029-90DC-481F-AEB8-342DE4D6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E26A-AA18-4ED9-85A6-03875909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4D55-C163-417F-B0EE-F2B5CA35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F51-7627-48B5-BAE6-0012E606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7EE1-0317-4ACA-B617-B8589095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1F9E-4774-4B51-B21B-D20FAAAD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FF13-C9A8-4CCD-9A52-56E592C6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97BC-37E4-4041-A54B-0773690A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5931-D86D-43FC-8070-5457A96436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1972-D2D0-4053-A538-AFC44BB3B0A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4" name="图片 3" descr="timg"/>
          <p:cNvPicPr/>
          <p:nvPr/>
        </p:nvPicPr>
        <p:blipFill>
          <a:blip r:embed="rId1"/>
          <a:stretch/>
        </p:blipFill>
        <p:spPr>
          <a:xfrm>
            <a:off x="76320" y="61920"/>
            <a:ext cx="8991360" cy="687528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4"/>
          <p:cNvSpPr/>
          <p:nvPr/>
        </p:nvSpPr>
        <p:spPr>
          <a:xfrm>
            <a:off x="7278840" y="3808440"/>
            <a:ext cx="178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国幅员辽阔，有许多风景秀丽的地方，位于祖国南方的一个最大的岛屿，它就是台湾岛，那里有一个风景特别美丽的地方，吸引了中外游客，那个地方就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" descr="timg"/>
          <p:cNvPicPr/>
          <p:nvPr/>
        </p:nvPicPr>
        <p:blipFill>
          <a:blip r:embed="rId1"/>
          <a:stretch/>
        </p:blipFill>
        <p:spPr>
          <a:xfrm>
            <a:off x="419040" y="1120680"/>
            <a:ext cx="8039160" cy="5245200"/>
          </a:xfrm>
          <a:prstGeom prst="rect">
            <a:avLst/>
          </a:prstGeom>
          <a:ln w="0">
            <a:noFill/>
          </a:ln>
        </p:spPr>
      </p:pic>
      <p:sp>
        <p:nvSpPr>
          <p:cNvPr id="105" name="文本框 2"/>
          <p:cNvSpPr/>
          <p:nvPr/>
        </p:nvSpPr>
        <p:spPr>
          <a:xfrm>
            <a:off x="2597040" y="198360"/>
            <a:ext cx="406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名胜古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" descr="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1"/>
          <p:cNvSpPr/>
          <p:nvPr/>
        </p:nvSpPr>
        <p:spPr>
          <a:xfrm>
            <a:off x="2293920" y="281160"/>
            <a:ext cx="52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从这一段，你又知道了什么？是从哪里知道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2"/>
          <p:cNvSpPr/>
          <p:nvPr/>
        </p:nvSpPr>
        <p:spPr>
          <a:xfrm>
            <a:off x="2513160" y="5762520"/>
            <a:ext cx="52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用自己的话说说日月潭的由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" descr="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1"/>
          <p:cNvSpPr/>
          <p:nvPr/>
        </p:nvSpPr>
        <p:spPr>
          <a:xfrm>
            <a:off x="1514520" y="1278000"/>
            <a:ext cx="6386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日月潭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   )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湖水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湖中央有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           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叫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岛把湖水分成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 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北边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      )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叫日潭；南边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 )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叫月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"/>
          <p:cNvSpPr/>
          <p:nvPr/>
        </p:nvSpPr>
        <p:spPr>
          <a:xfrm>
            <a:off x="2023920" y="5875200"/>
            <a:ext cx="48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月潭不仅名字有趣，哪里的风景也非常优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" descr="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1187280" y="3860640"/>
            <a:ext cx="165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名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著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名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中外闻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3708360" y="3860640"/>
            <a:ext cx="165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中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华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华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6443640" y="3933720"/>
            <a:ext cx="165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美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明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秀丽神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5" descr="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1"/>
          <p:cNvSpPr/>
          <p:nvPr/>
        </p:nvSpPr>
        <p:spPr>
          <a:xfrm>
            <a:off x="1319040" y="308772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日月潭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风光秀丽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，吸引了许许多多的中外游客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2"/>
          <p:cNvSpPr/>
          <p:nvPr/>
        </p:nvSpPr>
        <p:spPr>
          <a:xfrm>
            <a:off x="2527200" y="5030640"/>
            <a:ext cx="40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什么说它风光秀丽？默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2"/>
          <p:cNvSpPr/>
          <p:nvPr/>
        </p:nvSpPr>
        <p:spPr>
          <a:xfrm>
            <a:off x="3278160" y="744480"/>
            <a:ext cx="25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月潭究竟是怎样的，听老师读课文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"/>
          <p:cNvSpPr/>
          <p:nvPr/>
        </p:nvSpPr>
        <p:spPr>
          <a:xfrm>
            <a:off x="5867280" y="744480"/>
            <a:ext cx="25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中告诉我们，日月潭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" descr="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1"/>
          <p:cNvSpPr/>
          <p:nvPr/>
        </p:nvSpPr>
        <p:spPr>
          <a:xfrm>
            <a:off x="3992400" y="204840"/>
            <a:ext cx="30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两个自然段写了日月潭什么时候的风景？圈出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5.jpg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1"/>
          <p:cNvSpPr/>
          <p:nvPr/>
        </p:nvSpPr>
        <p:spPr>
          <a:xfrm>
            <a:off x="1432080" y="217440"/>
            <a:ext cx="732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清晨，中午的日月潭景色各不相同，各有特色。喜欢清晨日月潭的举手，请你们读一读，其它同学闭上眼睛边听边想清晨的日月潭是怎样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"/>
          <p:cNvSpPr/>
          <p:nvPr/>
        </p:nvSpPr>
        <p:spPr>
          <a:xfrm>
            <a:off x="533520" y="863640"/>
            <a:ext cx="42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月潭给你留下了怎样的印象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3"/>
          <p:cNvSpPr/>
          <p:nvPr/>
        </p:nvSpPr>
        <p:spPr>
          <a:xfrm>
            <a:off x="2360520" y="1673280"/>
            <a:ext cx="292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隐隐约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"/>
          <p:cNvSpPr/>
          <p:nvPr/>
        </p:nvSpPr>
        <p:spPr>
          <a:xfrm>
            <a:off x="4044960" y="86364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什么是隐隐约约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6"/>
          <p:cNvSpPr/>
          <p:nvPr/>
        </p:nvSpPr>
        <p:spPr>
          <a:xfrm>
            <a:off x="2360520" y="3165480"/>
            <a:ext cx="292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薄薄的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7"/>
          <p:cNvSpPr/>
          <p:nvPr/>
        </p:nvSpPr>
        <p:spPr>
          <a:xfrm>
            <a:off x="1265400" y="3995640"/>
            <a:ext cx="59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这是一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_____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的美，请你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" descr="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1"/>
          <p:cNvSpPr/>
          <p:nvPr/>
        </p:nvSpPr>
        <p:spPr>
          <a:xfrm>
            <a:off x="2744640" y="3203640"/>
            <a:ext cx="58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果说清晨的日月潭是隐约的美，那到了中午就不一样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男女分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说说看日月潭的中午是一种怎样的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" descr="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2"/>
          <p:cNvSpPr/>
          <p:nvPr/>
        </p:nvSpPr>
        <p:spPr>
          <a:xfrm>
            <a:off x="1881360" y="2263680"/>
            <a:ext cx="21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细雨中的日月潭也别有一番景象，让我们一起读一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3"/>
          <p:cNvSpPr/>
          <p:nvPr/>
        </p:nvSpPr>
        <p:spPr>
          <a:xfrm>
            <a:off x="4648320" y="2263680"/>
            <a:ext cx="21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象一下这景象特别像哪个童话中描写的景像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1" descr="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1187280" y="3860640"/>
            <a:ext cx="165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名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著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名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中外闻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3708360" y="3860640"/>
            <a:ext cx="165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中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华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华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6443640" y="3933720"/>
            <a:ext cx="165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美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明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秀丽神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5" descr="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文本框 1"/>
          <p:cNvSpPr/>
          <p:nvPr/>
        </p:nvSpPr>
        <p:spPr>
          <a:xfrm>
            <a:off x="1319040" y="308772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日月潭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风光秀丽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，吸引了许许多多的中外游客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"/>
          <p:cNvSpPr/>
          <p:nvPr/>
        </p:nvSpPr>
        <p:spPr>
          <a:xfrm>
            <a:off x="2527200" y="5030640"/>
            <a:ext cx="40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为什么说它风光秀丽？默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3"/>
          <p:cNvSpPr/>
          <p:nvPr/>
        </p:nvSpPr>
        <p:spPr>
          <a:xfrm>
            <a:off x="596880" y="204840"/>
            <a:ext cx="76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喜欢哪个时候的日月潭呢？比赛读一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无论是哪个时候的日月潭，都那么美，用一个词形容就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" descr="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" descr="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3" descr="2.jpg"/>
          <p:cNvPicPr/>
          <p:nvPr/>
        </p:nvPicPr>
        <p:blipFill>
          <a:blip r:embed="rId1"/>
          <a:stretch/>
        </p:blipFill>
        <p:spPr>
          <a:xfrm>
            <a:off x="-115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1"/>
          <p:cNvSpPr/>
          <p:nvPr/>
        </p:nvSpPr>
        <p:spPr>
          <a:xfrm>
            <a:off x="6308640" y="1536840"/>
            <a:ext cx="2008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潭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泥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深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2"/>
          <p:cNvSpPr/>
          <p:nvPr/>
        </p:nvSpPr>
        <p:spPr>
          <a:xfrm>
            <a:off x="1096920" y="977760"/>
            <a:ext cx="194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深水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" descr="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1" descr="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1692360" y="3716280"/>
            <a:ext cx="223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痕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足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名胜古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4716360" y="3789360"/>
            <a:ext cx="223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发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展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展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" descr="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" descr="3.jpg"/>
          <p:cNvPicPr/>
          <p:nvPr/>
        </p:nvPicPr>
        <p:blipFill>
          <a:blip r:embed="rId1"/>
          <a:stretch/>
        </p:blipFill>
        <p:spPr>
          <a:xfrm>
            <a:off x="0" y="90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文本框 1" descr=""/>
          <p:cNvPicPr/>
          <p:nvPr/>
        </p:nvPicPr>
        <p:blipFill>
          <a:blip r:embed="rId2"/>
          <a:stretch/>
        </p:blipFill>
        <p:spPr>
          <a:xfrm>
            <a:off x="1805040" y="2455920"/>
            <a:ext cx="620532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4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矩形 1"/>
          <p:cNvSpPr/>
          <p:nvPr/>
        </p:nvSpPr>
        <p:spPr>
          <a:xfrm>
            <a:off x="4932360" y="3990960"/>
            <a:ext cx="1727280" cy="57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"/>
          <p:cNvSpPr/>
          <p:nvPr/>
        </p:nvSpPr>
        <p:spPr>
          <a:xfrm>
            <a:off x="2681280" y="4726080"/>
            <a:ext cx="1727280" cy="57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6103800" y="4751280"/>
            <a:ext cx="1727280" cy="576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"/>
          <p:cNvSpPr/>
          <p:nvPr/>
        </p:nvSpPr>
        <p:spPr>
          <a:xfrm>
            <a:off x="698400" y="1873080"/>
            <a:ext cx="774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学习第一自然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矩形 1"/>
          <p:cNvSpPr/>
          <p:nvPr/>
        </p:nvSpPr>
        <p:spPr>
          <a:xfrm>
            <a:off x="6227640" y="5713560"/>
            <a:ext cx="266544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"/>
          <p:cNvSpPr/>
          <p:nvPr/>
        </p:nvSpPr>
        <p:spPr>
          <a:xfrm>
            <a:off x="1660680" y="1622520"/>
            <a:ext cx="2663640" cy="1006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alibri"/>
                <a:ea typeface="宋体"/>
              </a:rPr>
              <a:t>树木茂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0T00:52:05Z</dcterms:created>
  <dc:creator>Administrator</dc:creator>
  <dc:description/>
  <dc:language>en-US</dc:language>
  <cp:lastModifiedBy>noodee</cp:lastModifiedBy>
  <dcterms:modified xsi:type="dcterms:W3CDTF">2018-10-24T13:58:52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